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41D-61C0-4BE8-BCCF-06206595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DD0-E688-493C-8397-0DB2F98E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8B0-533C-4692-8F54-99F3D1D7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9C6-21FE-4731-82B0-F7F756F0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C0E-E640-45A5-83C8-3A27EDE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82E-3D9A-48AA-AC1B-65F10146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29F-05E5-40C4-970F-0728847E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AB6-92D6-4EF4-A9F3-58822B14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AA3-6CCD-4890-8AEB-56BFC8FA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C03-87CD-4AFF-9CE3-EC8C211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CC6-EACD-4D0A-A923-574D547F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117-86CA-40E6-AAA4-534EDA3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4C1-07D2-47B4-93F2-8DF1821A76C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       Dr. Ralf Scho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 R&amp;D-strategy-workshop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836640"/>
          <a:ext cx="8207280" cy="3919680"/>
        </p:xfrm>
        <a:graphic>
          <a:graphicData uri="http://schemas.openxmlformats.org/drawingml/2006/table">
            <a:tbl>
              <a:tblPr/>
              <a:tblGrid>
                <a:gridCol w="1871640"/>
                <a:gridCol w="633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:00 – 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1:30 – 12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2:30 – 13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u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3:30 – 1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session, topics defined on following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:30 – 18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 for daily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8:30 – 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i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age tb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519120" y="4724280"/>
            <a:ext cx="8085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During morning and afternoon working session no internet access and phone usage will be allowed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The workshop will start on Sunday afternoon with a session to get the personal expectations and a get-together to build personal relationship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esentation of each organization by the participa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opics to address in the presentatio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eople incl. education and skil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ing model and process including measur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ducts and running projects in the respectiv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sult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onday afterno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hat has to be done to become one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ision, Miss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Goals to rea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alue of one R&amp;D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llaboration of the different organizations insid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xpectations on the others as well as on your own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overcome prejudic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educe anxiety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mor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How to …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chieve the defined targets and goal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mprove collabor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djust to new technologies and business need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enjoy competi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troop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mmunicate in the organiz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369720" y="461484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Tuesday after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9720" y="5311800"/>
            <a:ext cx="8305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action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072400">
            <a:off x="7873560" y="49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5-14T11:49:34Z</dcterms:modified>
  <cp:revision>60</cp:revision>
  <dc:subject/>
  <dc:title>PowerPoint 簡報</dc:title>
</cp:coreProperties>
</file>